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9F4-F1DF-49D7-85F4-95331B5F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5A1-D583-42BC-94BE-76B37E7D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F3C-64D4-4B8F-900A-A08BA8D5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3E7-7F09-4A37-BB14-2A7EA147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09A-170B-4CCB-935E-8DDFB0C6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16B-9886-4B6A-98F7-21436E5E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2A7-40EC-4F4C-A78B-EB4413C3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892-5DA8-402D-8BCA-8F0A648A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675-C110-4973-A1D0-C7D88A1C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825-674C-4139-A65B-43F51D2E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2E4-D753-4D0D-B010-BB1D27A3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648-7559-40F0-90D9-5EEAC66F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7939-E762-4E09-9014-70B511237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451070cXNiyMwIs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6019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عبك يا رب يسبّح اسمك كلّ القوات تسجد لك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لائكة تعظّمك يسو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ت الطري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216836NubwvsYlWk_ph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وحّدنا دوماً بروحك لنعمل مشيئتك</a:t>
            </a:r>
            <a:br>
              <a:rPr sz="4000"/>
            </a:b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من الأعماق نصرخ لك يسوع نحبك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7:02:23Z</dcterms:created>
  <dc:creator>SUZANNE.MD</dc:creator>
  <dc:description/>
  <dc:language>en-US</dc:language>
  <cp:lastModifiedBy>USER</cp:lastModifiedBy>
  <dcterms:modified xsi:type="dcterms:W3CDTF">2003-02-03T12:24:12Z</dcterms:modified>
  <cp:revision>2</cp:revision>
  <dc:subject/>
  <dc:title>PowerPoint Presentation</dc:title>
</cp:coreProperties>
</file>